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0E9-F85A-49C8-9A90-77388136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1B7-26B4-4356-8F2E-0009ADA8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E3C-B79E-44A5-A0BE-4FF3F3EF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730-A1CE-4B0A-ABE2-73567ACC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E309F-4F18-4290-9E49-7015A37D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2C163-6344-43F6-A128-F5B55CBF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31B4E-E5D6-472F-983B-3D0DCFFC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CDD27-01D6-44BC-8863-8207620A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BF1B8-454D-4D5D-BF49-17839D6C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DA477-86A7-46BA-A7C0-16F42BAB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7F9EB-F5F3-46AA-985F-C8C7CE95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B8E-8121-49F1-BBAD-4E73E2C6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2285B-CF9A-40BA-8FEB-41C90118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D3B9B-955A-42A5-8ECD-067C9554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12CC7-4598-4FB4-AB4B-52BADE48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0159A-C906-4F73-8F03-053AD0C9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D98E7-0C05-4CF2-BE3C-C9BDAA4D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E2B0B-35D9-4928-B723-9DFC9048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B0C5-FFF3-4A69-B76B-CF623879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1976-17B8-46D1-8A9C-1B41CDBA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3AA7A-F17D-411C-8DB6-EAFDB9B8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57C7-147A-4760-908E-787C9024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2B1-2BC6-4B72-9C19-6A471030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12A7-6159-440C-946F-88ED9BAA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0F21-631A-44F3-A87F-B23A38B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4080-D514-4950-AE9F-85901D88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61EA-BD15-46A8-80D6-DFCB117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61D3D-B7EA-463A-9E5E-2524C1A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E0D0-E32F-40FD-8795-E29F6634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42DB3-3E44-4C6C-9BF1-DBC4CF4C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83412-2EF8-47EA-BCB0-B7C9CA3A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75DB8-E4F9-4DB1-90A1-0868A46E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87AAA-7E7A-4044-B44E-6B86441E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388-33F2-40BA-B31B-996B43B0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3FD21-0CF2-49F9-8DE0-B03EAFCC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9E663-68C3-480D-AABD-91299AD0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19646-6FA2-4285-A08E-DBCA6ADA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399576-AB88-4A95-AC3B-EBD050D6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2ABC5-C675-4E5E-9D91-D65FFA7C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04F73-FCEA-4C14-AA4F-326AFE0B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AC613-8A2C-48AE-A965-D80A2FCA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46DDC-7EA8-43B9-9F8A-E572E84B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D18D6-30E5-464C-83C0-31DE6C91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37A-579A-43F7-BA00-ED952754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2BE-59AA-4952-AF0D-629CFC9E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395-7B5D-4824-A328-1B149F33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7701-E840-44C3-9B34-009279AA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F2A-662F-43E5-9E63-07704E4D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7BD3-C87D-4846-8BCA-0ACB09CEF60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A96D-C84D-4E6E-A3AF-FCCF9DB65AAB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4B81-A6F7-42B0-8AFA-49A3B514C425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EA37-BBD6-4941-901B-E869F187EF96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0"/>
            <a:ext cx="845820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教會聖詩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69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  </a:t>
            </a:r>
            <a:r>
              <a:rPr b="1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堅固磐石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心所望別無根基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惟有救主流血公義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除此以外虛空無憑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獨靠主耶穌聖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立在基督磐石堅固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0"/>
            <a:ext cx="845820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有時黑雲遮沒我面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耶穌恩典永無改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大風巨浪我亦不怕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因望如錨海底拋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立在基督磐石堅固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77040"/>
            <a:ext cx="628020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主曾流血立此新約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應許救我扶助軟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良朋密友雖都遠離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我靠救主安慰到底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立在基督磐石堅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71920" y="1080"/>
            <a:ext cx="39844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末日聽見號筒聲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與主相遇永遠相親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穿上救主雪白義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無瑕無疵同受榮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立在基督磐石堅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其餘根基全是沙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6-04-14T21:37:13Z</dcterms:modified>
  <cp:revision>55</cp:revision>
  <dc:subject/>
  <dc:title>Slide 1</dc:title>
</cp:coreProperties>
</file>